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3F6-2855-4CC7-B9CA-58FEAE56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659-B6BA-4038-84F4-4A09D4A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F4A-5A45-4D45-BBD7-8D5B216C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404-5980-4D8F-BD4C-C690BB6F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472-9484-4A6C-BDC6-0B770FE3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BAC-1AB9-4AAE-999E-1E3649C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3BB-5B85-479B-80FF-03A10B4E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2971-DE07-41D9-86D5-BB6C4BC5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25E-243C-4B37-AC89-1A925FBA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DAF3-DF40-47E6-B73D-2190092F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27B-8B82-4D61-9FED-18E39EF6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B85-BD71-4EC4-B683-FA70DBB3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AFE9-A030-43F2-8951-B3A988557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380880"/>
            <a:ext cx="3962520" cy="5640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80880"/>
            <a:ext cx="3962520" cy="619704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INE O’L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PELICULA:  S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CIO: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$8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La pelicula se mostrara’ durante tu clase de Espano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l Martes y el Miercoles 11 y 12 de Mayo,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tengan sus billete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523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200400" y="419112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086600" y="4114800"/>
            <a:ext cx="1217520" cy="1336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52280" y="42670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52280" y="22860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7772400" y="609480"/>
            <a:ext cx="1003320" cy="1127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924680" y="5410080"/>
            <a:ext cx="100332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609480"/>
            <a:ext cx="7010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SETAS DE MAIZ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9880" y="4191120"/>
            <a:ext cx="4496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$ 2.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 LA MALE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9400" y="3200400"/>
            <a:ext cx="1790640" cy="31528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1791000" cy="31528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00" name=""/>
          <p:cNvSpPr txBox="1"/>
          <p:nvPr/>
        </p:nvSpPr>
        <p:spPr>
          <a:xfrm>
            <a:off x="2895480" y="533520"/>
            <a:ext cx="44960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Bebida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533376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TechnicLite"/>
                <a:ea typeface="TechnicLite"/>
              </a:rPr>
              <a:t>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7T18:29:23Z</dcterms:created>
  <dc:creator>ValeriaP</dc:creator>
  <dc:description/>
  <dc:language>en-US</dc:language>
  <cp:lastModifiedBy>Preferred Customer</cp:lastModifiedBy>
  <cp:lastPrinted>1999-05-10T17:34:35Z</cp:lastPrinted>
  <dcterms:modified xsi:type="dcterms:W3CDTF">2001-01-08T01:30:13Z</dcterms:modified>
  <cp:revision>4</cp:revision>
  <dc:subject/>
  <dc:title>No Slide Title</dc:title>
</cp:coreProperties>
</file>